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F79-E928-4470-AE0A-176C8A02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BFA-ECA5-4B04-9546-DD4872C3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FD4-D2CC-4F64-A6B0-55194180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1EC-3524-4D25-864A-103A7145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369-4C6D-462F-B1B7-84536F2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991-2A82-4C0C-8FF3-122C775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2EC-ABB7-440D-AE50-9DAC227E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C29-F565-4927-BDD8-1924BB3D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20B-AFEC-4683-9918-BBBAACD4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C46-121E-4EE4-B414-C4AF708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D94-8C57-408A-99F5-ACFCD7C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C0E-AEA6-4FC5-AE63-2AA103B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80A5-5339-4154-B97A-DDA039402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ersonal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visual and tact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I learn better by seeing and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earning 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crete seq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am realistic, orderly, logical and careful of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mispheres of my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that the right hemisphere of my brain is less dominate than the left hemisphere of my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ft hemisphere of my brain is what makes me different from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am very coordinated, and able to figure out how to perform a move or task and I like to learn by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s fun to learn about me and that I know how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I appl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apply it when I am in school and I am working on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 know the best way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9:01Z</dcterms:created>
  <dc:creator>student</dc:creator>
  <dc:description/>
  <dc:language>en-US</dc:language>
  <cp:lastModifiedBy>student</cp:lastModifiedBy>
  <dcterms:modified xsi:type="dcterms:W3CDTF">2010-10-26T13:46:09Z</dcterms:modified>
  <cp:revision>5</cp:revision>
  <dc:subject/>
  <dc:title>My Personal Learning Profile</dc:title>
</cp:coreProperties>
</file>